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D32-576A-4F41-8D99-1C0F2E62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DF5-6961-4B9A-963A-2EB3AA48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060-144A-4671-80C6-7477DD85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B15-A6F3-40E8-BEF7-D1E0ACDF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750-D2B2-477C-8DD5-AA23FFFB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845-9A05-41DA-B04D-3326E0D7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EF4-FFF3-4086-856F-D7DFDBE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705-57A7-4AAA-8A49-200B9E4E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668-0AB8-442B-B549-918B761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4E2-5687-451E-829A-DD4C7C98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E8A-B58F-4702-900F-9EA87E37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19E-F470-449E-8008-3DAF1C3A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BED7-E3BA-4964-ADB0-EA8918F81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840"/>
            <a:ext cx="7772400" cy="24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конд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484280"/>
            <a:ext cx="87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а може бити добро кондиционо припремљен, али постизање најбољег тренутног резултата зависи од многих фактора, као што с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тивација пре такмичења и током такмичењ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рана и физичка активност непосредно пре такмичењ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иматски услови у месту одржавања такмичењ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ћење физичке кондиције и спортске форме може се вршити разним дијагностичким тестовима и методама, што знатно утиче на напред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6000" y="1267920"/>
            <a:ext cx="871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бисмо проценили физичку способност спортисте, потребно је пре свега прецизирати укупну дозу или волумен физичке активности коју особа упражњава, а која зависи од фактора који су садржани у такозвано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FIT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нцип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еквенција: колико често је особа укључена у физичку активност (најчешће се изражава кроз број физички активних сати у седмиц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нзитет: која јачина/интензитет физичке активности се упражњава (најчешће се квантификује као лака, умерена и интензивна/снажна физичка активност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: трајање једне сесије физичке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: специфична врста/тип вежби у коју је особа укључена (на пример трчање, пливањ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Ð ÐµÐ·ÑÐ»ÑÐ°Ñ ÑÐ»Ð¸ÐºÐ° Ð·Ð° FITT principle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3600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79280" y="2133720"/>
            <a:ext cx="720720" cy="28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642400" y="105264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FII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628280"/>
            <a:ext cx="8712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бинацијом наведених фактора можемо одредити укупни волумен, односно дозу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јчешћи начин изражавања укупне количине или дозе физичке активности јесте кроз мерење потрошње енергије или утрошак калорија, што представља важан параметар у детерминацији физичке способности одређеног спортисте у одређеној спорткој дисципли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Ð ÐµÐ·ÑÐ»ÑÐ°Ñ ÑÐ»Ð¸ÐºÐ° Ð·Ð° FITT principle"/>
          <p:cNvPicPr/>
          <p:nvPr/>
        </p:nvPicPr>
        <p:blipFill>
          <a:blip r:embed="rId1"/>
          <a:srcRect l="0" t="28888" r="0" b="9485"/>
          <a:stretch/>
        </p:blipFill>
        <p:spPr>
          <a:xfrm>
            <a:off x="2268360" y="3860640"/>
            <a:ext cx="46929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483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способношћу у ширем смислу подразумева се скуп урођених фактора и стечених услова који омогућавају вршење (упражњавање) неке активности (делат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 за развој способности се код људи веома разликује и зависи од наследних и анатомско-физиолошких способ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Ð ÐµÐ·ÑÐ»ÑÐ°Ñ ÑÐ»Ð¸ÐºÐ° Ð·Ð° fizicka sposobnost"/>
          <p:cNvPicPr/>
          <p:nvPr/>
        </p:nvPicPr>
        <p:blipFill>
          <a:blip r:embed="rId1"/>
          <a:stretch/>
        </p:blipFill>
        <p:spPr>
          <a:xfrm>
            <a:off x="2771640" y="3933720"/>
            <a:ext cx="40402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412640"/>
            <a:ext cx="511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ђу предиспозиција и развоја способности дуг је развојни проц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е не условљавају, али предодређују ниво способности човека и његове могућ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ји више теорија о способностима, њиховом пореклу, факторима развоја и врст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е се више ослањају на значајну улогу фактора наслеђа, док друге придају већи значај социјалној средини, међутим, активност појединаца је заједничка карактеристика свих теор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Ð ÐµÐ·ÑÐ»ÑÐ°Ñ ÑÐ»Ð¸ÐºÐ° Ð·Ð° physical capabilities"/>
          <p:cNvPicPr/>
          <p:nvPr/>
        </p:nvPicPr>
        <p:blipFill>
          <a:blip r:embed="rId1"/>
          <a:srcRect l="5057" t="6743" r="5621" b="8993"/>
          <a:stretch/>
        </p:blipFill>
        <p:spPr>
          <a:xfrm>
            <a:off x="5435640" y="2036880"/>
            <a:ext cx="34574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1557360"/>
            <a:ext cx="8362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обности се манифестују 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579600" y="2200320"/>
            <a:ext cx="458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62828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рмин који је повезан с физичком активношћу јесте физичка способност, која подразумева функционалну способност човековог организма да се адекватно носи са свакодневним физичким напорима на радном месту, у дому, на улици и тако да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Ð ÐµÐ·ÑÐ»ÑÐ°Ñ ÑÐ»Ð¸ÐºÐ° Ð·Ð° physical capabilities"/>
          <p:cNvPicPr/>
          <p:nvPr/>
        </p:nvPicPr>
        <p:blipFill>
          <a:blip r:embed="rId1"/>
          <a:srcRect l="5057" t="6743" r="5621" b="8993"/>
          <a:stretch/>
        </p:blipFill>
        <p:spPr>
          <a:xfrm>
            <a:off x="3348000" y="3645000"/>
            <a:ext cx="3095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ку способност човека карактерише функцијска интеграција чинилаца као што 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фолошке карактеристик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шићна способност (мишићна снага и мишићна издржљивост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диоваскуларна способнос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ираторна способнос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ергетска способност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на ефикас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628280"/>
            <a:ext cx="871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 описујемо физичку способност спортиста, важно је издвојити седам физичких својстава човека, а то су снага, брзина, издржљивост, координација, равнотежа, прецизност и покрет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Ð ÐµÐ·ÑÐ»ÑÐ°Ñ ÑÐ»Ð¸ÐºÐ° Ð·Ð° physical abilities"/>
          <p:cNvPicPr/>
          <p:nvPr/>
        </p:nvPicPr>
        <p:blipFill>
          <a:blip r:embed="rId1"/>
          <a:srcRect l="0" t="28412" r="0" b="0"/>
          <a:stretch/>
        </p:blipFill>
        <p:spPr>
          <a:xfrm>
            <a:off x="1187280" y="3591000"/>
            <a:ext cx="6077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конди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48428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ка кондиција подразумева скуп свих карактеристика повезаних са здравственим статусом, а у неким случајевима и са спортским исходима или вештинама и подразумева физичку припремљеност особе за извођење општих или специфичних физичких активности вишег интензитета и већег об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Ð ÐµÐ·ÑÐ»ÑÐ°Ñ ÑÐ»Ð¸ÐºÐ° Ð·Ð° fizicka kondicija"/>
          <p:cNvPicPr/>
          <p:nvPr/>
        </p:nvPicPr>
        <p:blipFill>
          <a:blip r:embed="rId1"/>
          <a:stretch/>
        </p:blipFill>
        <p:spPr>
          <a:xfrm>
            <a:off x="2627280" y="3573360"/>
            <a:ext cx="43513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конд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06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зана је с издржљивошћу у физичким активностима аеробног и анаеробног типа и директно зависи од функционалности организма (кардиоваскуларног и респираторног система, локомоторног апарата и тако даље), од здравственог статуса, генетике, узраста, пола и тренира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пен развијености ових карактеристика код човека се одражава на физичку способност у свакодневним животним околностима, а код спортиста на спортске резулта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ска форма подразумева стање тренираности спортисте које му омогућава постизање његових тренутних најбољих резул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Vladimir Jakovljevic</cp:lastModifiedBy>
  <dcterms:modified xsi:type="dcterms:W3CDTF">2018-10-03T09:13:02Z</dcterms:modified>
  <cp:revision>40</cp:revision>
  <dc:subject/>
  <dc:title>Демијелинизационе болести Мијастенија гравис</dc:title>
</cp:coreProperties>
</file>